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E1A9-51A8-4391-96CF-90AA717E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3E72-7013-4AAD-B79B-A3D875C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ADB2-892D-4242-8DE5-DD95C7D6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A2A5-69D4-40DA-AA96-AB0F25DA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96E1-D9D4-437A-A12F-84B09388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027B-4775-407F-8B10-BF94D07E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61A0-0EF7-43E1-A7FF-F51130A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527E-E573-43A8-9A9A-CE71DD5D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469-DF42-49A9-AC18-F082648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F0C0-BF8C-4BB5-95EC-E46E9B7C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D348-8000-48CC-9B5A-268FD04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4818-0CA1-44C3-9FB5-7B466037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07B9-396F-4472-88F0-4B2C364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3C58-C5C8-4E6C-838A-0D39CEB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C4A-1F53-4AD2-9372-CE92578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E762-F5AA-4FAE-9ADF-59415589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E6AB-214D-4CCD-B72D-FD1C12D6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100E-9FE4-4B8B-A371-B19F830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7342-0ECD-4A76-86F7-6E2CBFAE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0D58-59AD-4E0C-912A-7CAB593C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5586-D3F8-456C-A5CB-3C256DC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FBCF-6FFF-4686-8AFD-2B3EE7F7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33E1-E3EA-43B4-98F2-6D551641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25F0-63C2-45E3-BF88-2B05CAD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0E3A-1E3B-45DF-B2E2-53626CD4539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402A-C8A5-4E85-B8A4-618635D9EA4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yecto de Rediseñ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mpresa de Agua P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ua S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755640" y="2421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ntegrar a bajo costo los servicios de medición de consumos básicos domiciliarios, con alta satisfacción de usuar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Objetivo Del Rediseñ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755640" y="155700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mejorar satisfacción de cl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eliminar la tasa de errores de las lectura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bajar los costos de lectura, digitación, impresión, reparto y co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disminuir los tiempos del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iminar procesos ineficientes, tales como lectura manual, digitación, procesamiento, impresión y ensob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minuir los recla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mentar el valor público del proceso asociando a otras empresas de consumos bás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fdef6"/>
                </a:solidFill>
                <a:latin typeface="Arial"/>
              </a:rPr>
              <a:t>Fundamento del rediseño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escripción del</a:t>
            </a:r>
            <a:br>
              <a:rPr sz="4400"/>
            </a:b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roceso Rediseñ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Estimación del</a:t>
            </a:r>
            <a:br>
              <a:rPr sz="1800"/>
            </a:b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Impacto del Rediseño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24717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50421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Estimación del</a:t>
            </a:r>
            <a:br>
              <a:rPr sz="1800"/>
            </a:b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Impacto del Rediseño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924360" y="3357720"/>
            <a:ext cx="4829040" cy="3068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7800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e proyecto tiene todos los derechos reservados</a:t>
            </a:r>
            <a:br>
              <a:rPr sz="4400"/>
            </a:b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atente en trámit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1600" spc="-1" strike="noStrike">
                <a:solidFill>
                  <a:srgbClr val="dfdef6"/>
                </a:solidFill>
                <a:latin typeface="Arial"/>
              </a:rPr>
              <a:t>Llamar al fono: 5950500 – horario de oficina</a:t>
            </a: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3:01:33Z</dcterms:created>
  <dc:creator>junaeb</dc:creator>
  <dc:description/>
  <dc:language>en-US</dc:language>
  <cp:lastModifiedBy>junaeb</cp:lastModifiedBy>
  <dcterms:modified xsi:type="dcterms:W3CDTF">2007-10-12T23:44:31Z</dcterms:modified>
  <cp:revision>4</cp:revision>
  <dc:subject/>
  <dc:title>Proyecto de Rediseño</dc:title>
</cp:coreProperties>
</file>